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09D-CDAD-4F68-B386-CE0E6437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167-D8EC-4502-B330-4AEF7AE2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610-606B-43A2-9DC3-49447A66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364-CCA4-41E2-934B-12FA44F4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0451-93BA-4EDF-ABE9-56F8AED7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0C43-97E7-4FE1-B705-BB9440A4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1F12-9ADA-4E51-A766-CC671117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FAA8-5E87-4F21-9700-0A392078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2D3E-ABE0-4CF4-8159-5BB0897D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8663-953C-4A85-97F3-A609BCF9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913E-26A5-4973-9033-94CC55CE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290-B05D-4AA1-8CBA-776C4471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F727-2980-4775-93DC-D3A24622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CADB-D4FB-4C7F-BA2D-61FC3936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86DA-6F5F-4685-A32A-570F8451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C748-12E9-495F-8404-A690EE82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8B23-51D8-49D9-B75C-1355080D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38F-0A2F-4608-BDFB-442B64CC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02B-4391-4B7E-9446-2B8D9D02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C6D-B786-47E7-823E-2E1B4333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9A8-3677-4BD4-B1E4-743080BB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EC5-7702-4CA8-9495-5BB5B969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C8F-5059-49FE-9587-929ED798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9B3-51B3-4292-ADF4-3209AB83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7420-84C5-45B8-9F84-9439D032B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ABDF-5B1E-4404-A114-9DFED035A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26d18"/>
                </a:solidFill>
                <a:latin typeface="Times New Roman"/>
              </a:rPr>
              <a:t>APARIŢIA ŞI RĂSPÂNDIREA CREŞTINISMULUI</a:t>
            </a: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a26d18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a26d18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a26d18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5840" y="3736440"/>
            <a:ext cx="678024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009880" y="3166920"/>
            <a:ext cx="59245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aptat după Manualul de Istorie, clasa a V-a, Zoe Petre,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Proba de evaluare a competenţelor digitale</a:t>
            </a:r>
            <a:r>
              <a:rPr b="1" lang="en-US" sz="1000" spc="-1" strike="noStrike">
                <a:solidFill>
                  <a:srgbClr val="a26d18"/>
                </a:solidFill>
                <a:latin typeface="Times New Roman"/>
              </a:rPr>
              <a:t> – document de lucru</a:t>
            </a:r>
            <a:br>
              <a:rPr sz="4000"/>
            </a:br>
            <a:endParaRPr b="1" lang="en-US" sz="1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49731" t="19594" r="-39775" b="15616"/>
          <a:stretch/>
        </p:blipFill>
        <p:spPr>
          <a:xfrm>
            <a:off x="6705720" y="1828800"/>
            <a:ext cx="325908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a26d18"/>
                </a:solidFill>
                <a:latin typeface="Times New Roman"/>
              </a:rPr>
              <a:t>Proba de evaluare a competenţelor digitale</a:t>
            </a:r>
            <a:r>
              <a:rPr b="1" lang="en-US" sz="1000" spc="-1" strike="noStrike">
                <a:solidFill>
                  <a:srgbClr val="a26d18"/>
                </a:solidFill>
                <a:latin typeface="Times New Roman"/>
              </a:rPr>
              <a:t> – document de lucru</a:t>
            </a:r>
            <a:br>
              <a:rPr sz="4000"/>
            </a:br>
            <a:endParaRPr b="1" lang="en-US" sz="1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a26d18"/>
              </a:buClr>
              <a:buSzPct val="60000"/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3a3</cp:lastModifiedBy>
  <dcterms:modified xsi:type="dcterms:W3CDTF">2012-06-19T11:02:26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